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8D5-45F4-451F-A4DA-536E7EE8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EB4-6B66-4C42-95B2-0E02513B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7CC-7E7D-4FC3-9729-D2EE4B28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D16-8BD3-4E15-8C3A-FA362FF8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4AB-1520-42C3-B336-36AB68EF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401-4DDA-4340-8F4F-F30B7D11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ED0-F41F-4073-A8A3-CC97842C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A0B-F83A-45BF-AA91-C3DA9E44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55F-BB84-40D8-9E12-1CE1E85D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DED-7690-41C9-9658-E0CA6098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4E4-AC73-48E7-BECA-056D0321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486-3201-4200-9406-7A9ADD80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9CD2-23C6-4F1E-96C3-7F4374BB5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MQ-1 Operating Area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FL180B23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24 apr 09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cxnSp>
        <p:nvCxnSpPr>
          <p:cNvPr id="43" name="Straight Arrow Connector 12"/>
          <p:cNvCxnSpPr/>
          <p:nvPr/>
        </p:nvCxnSpPr>
        <p:spPr>
          <a:xfrm flipH="1" flipV="1">
            <a:off x="2361600" y="3809160"/>
            <a:ext cx="251532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" name="TextBox 13"/>
          <p:cNvSpPr/>
          <p:nvPr/>
        </p:nvSpPr>
        <p:spPr>
          <a:xfrm>
            <a:off x="2438280" y="3886200"/>
            <a:ext cx="2286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3 NMs from R-5104/5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2362320"/>
            <a:ext cx="1981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NM self imposed safety boundary around entire operat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15"/>
          <p:cNvCxnSpPr/>
          <p:nvPr/>
        </p:nvCxnSpPr>
        <p:spPr>
          <a:xfrm flipV="1">
            <a:off x="1981080" y="2666160"/>
            <a:ext cx="45792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7" name="Straight Arrow Connector 17"/>
          <p:cNvCxnSpPr/>
          <p:nvPr/>
        </p:nvCxnSpPr>
        <p:spPr>
          <a:xfrm flipH="1" flipV="1">
            <a:off x="2208960" y="4571640"/>
            <a:ext cx="2667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" name="TextBox 19"/>
          <p:cNvSpPr/>
          <p:nvPr/>
        </p:nvSpPr>
        <p:spPr>
          <a:xfrm>
            <a:off x="2438280" y="4648320"/>
            <a:ext cx="2286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 NMs from R-5104/5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3962520" y="17524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te #1; 10 NM radi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1"/>
          <p:cNvCxnSpPr/>
          <p:nvPr/>
        </p:nvCxnSpPr>
        <p:spPr>
          <a:xfrm flipH="1">
            <a:off x="3276000" y="2058840"/>
            <a:ext cx="686520" cy="913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1" name="TextBox 14"/>
          <p:cNvSpPr/>
          <p:nvPr/>
        </p:nvSpPr>
        <p:spPr>
          <a:xfrm>
            <a:off x="6705720" y="4495680"/>
            <a:ext cx="1981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te #2; 10 NM radius.  Most area is within R-5104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16"/>
          <p:cNvCxnSpPr/>
          <p:nvPr/>
        </p:nvCxnSpPr>
        <p:spPr>
          <a:xfrm flipH="1" flipV="1">
            <a:off x="5485680" y="4190400"/>
            <a:ext cx="12200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4:28:08Z</dcterms:created>
  <dc:creator>NickelsS</dc:creator>
  <dc:description/>
  <dc:language>en-US</dc:language>
  <cp:lastModifiedBy>NickelsS</cp:lastModifiedBy>
  <dcterms:modified xsi:type="dcterms:W3CDTF">2009-06-11T15:57:33Z</dcterms:modified>
  <cp:revision>7</cp:revision>
  <dc:subject/>
  <dc:title>Main MQ-1 Operating Area FL180B230</dc:title>
</cp:coreProperties>
</file>